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5E9B-E906-42EA-B1B0-A69A5479F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1115-C4E9-4F56-A6AA-70C1AAFD9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93D8-32AE-416C-8B87-2F01AEE91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2CA6-17E7-4DB3-8C9E-0D808D3B9F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B7BD-F756-4B96-874E-26D2379CA8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19559-032D-4ED8-9510-9267E7171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56A4-287C-4175-A77D-82775DB83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7B19-3308-4F26-A9DA-20BC9CC34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81DC-1608-4966-B793-F635AF8FC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15C9-2697-474D-971D-4793615F3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9508-6D26-4678-9271-B95756A78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82BC-AC95-40F8-86D4-DCBCFE292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AB9A-D64D-4F4B-9DC4-9B155D028B8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B4759-845E-4D96-9876-40E1AEE553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28E8-7281-41BC-974F-2E7FB5CC45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23FE-A0E7-4165-8900-EAB19C50AA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2043-351F-4BD7-884E-5D7379309E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A19D-285A-42C8-8750-3C6023497F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D25A7-6CA0-43B1-9539-F036F65DF7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15BB-136F-4890-B202-8A5AC1E0D2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4415-224F-4865-9F48-58B3D572C87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3A95-98B1-4288-AFAD-FBCBAB3EF2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AAA8-4BA2-48D8-8E09-44FEAD146C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ABAC-E25D-4AA0-96B2-3BF9D19925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6DAE-A439-42A3-95EE-8061DA53E8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A745-B96F-413E-B83F-969C5EDF52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B8D4-A0A3-4A4F-95AE-80C16B3664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7FEF-B1FE-4427-8238-6DFE61405D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94E5-2EE9-4BCB-B675-92A0C1F7A2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F364-D1C8-475C-BABB-BD1A70CA8B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0168-0F58-4E99-A0E5-54C16B8D6B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096B-D2D2-4CB4-BAB6-A0EFC0417B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3686-0CC6-4855-9711-4B21A1B63E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840F-0019-4EDC-B463-3DDD4E4004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D887-69BB-45EA-9F28-3480593F7B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273A-3FD6-4205-B862-285514503D7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D987-0F3C-40AD-889C-89A8A30E15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25C5-4B26-4C2D-BA4E-DAE9F765B6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3C57-B965-40C4-9267-239733AB60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719A-797D-4D56-A8F7-E6BC5557B3D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395C-4ADD-4B33-9838-E9E0987B915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BAB2-5C00-4158-8DB4-88E1D5323BA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4DDC-6BD0-46E0-A42B-87926C52BEB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20796-F8D2-4A35-89F3-420CE745960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EC0A-040F-4967-8311-1C5235005A3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F1C9-27F0-457E-A38F-793CB7D3CF9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619A-843B-41EE-9398-7270019D001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156D-A7A8-42DE-8320-D556DAB3B4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A3F6-338E-4D6A-98EB-88A84A83A7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F80A6-F0C3-440E-89D9-0F063AE8BF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1490-296B-4960-8EBB-3B7703498A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F505-9441-4EF9-AAE5-4C903F73D4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2-11T19:51:05Z</dcterms:modified>
  <cp:revision>101</cp:revision>
  <dc:subject/>
  <dc:title>Slide 1</dc:title>
</cp:coreProperties>
</file>